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09D-3067-4000-94A5-4BFCFC8E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7FE-E365-4BD1-B256-79A8C5AD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D04-A029-4F5C-9138-4C20A692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77B-177C-4ACF-8D1B-7B1E2172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D11-F941-4AB3-BE5D-6C1FC172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0D8-942C-476B-94AC-A7C9FC22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171-0F5B-4A88-822E-BA67DA37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C1F-3756-45D1-B3EE-95084390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403-72B1-44D1-A395-A053CDF8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A3B-03D0-4446-AC52-DA507A8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D4C-CF73-4D7A-AF57-FB505DE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D96-DC8D-4D35-9B9B-F94B602F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583D6-67DD-46E5-8EB7-E2B87CF906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O JABUTI  E  O  COEL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86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jabuti resolveu apo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ma corrida com o coelh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59640" y="468000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60000" y="89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corrida começ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coelho saiu na frente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em enxergou o jabu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80000" y="5040360"/>
            <a:ext cx="3240360" cy="23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000" y="89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“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ho que posso dor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m pouco. Ele vai demo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a me alcançar”, pensou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elh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80000" y="4140360"/>
            <a:ext cx="341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1440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coelho pegou no s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 nem viu o jabuti pass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_ Venci! Venci! 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itava o jabu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9640" y="3780000"/>
            <a:ext cx="259560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1:29:44Z</dcterms:created>
  <dc:creator>Sala Professores</dc:creator>
  <dc:description/>
  <dc:language>en-US</dc:language>
  <cp:lastModifiedBy/>
  <dcterms:modified xsi:type="dcterms:W3CDTF">2010-12-14T23:46:41Z</dcterms:modified>
  <cp:revision>2</cp:revision>
  <dc:subject/>
  <dc:title/>
</cp:coreProperties>
</file>